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AF3-5620-4140-8FCD-0781D13E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A69-DD79-4605-9FBE-2C34CF27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A9F-1497-4D84-9C0E-EA8FD7FA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4C2-1E90-4082-9CAB-3C70AEFF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AE3-AE2E-4E4F-A6E9-EDECF587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B45-B968-439A-9D5B-1BF4D8AB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5AF-4BB9-434E-8C98-28F9093C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FE7-446A-4F97-97BE-8F1305CF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281-A0E1-40EB-8E22-CB76576B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8D2D-EC98-4666-96F4-FF8AAC10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E3C-1BC1-417B-BAE9-66110CE2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A05-89F2-42DB-8424-1ED3F1D9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3DCE-8343-4539-9FF5-9E60D2F04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2209680"/>
            <a:ext cx="8458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Once More With a .4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6720" y="5791320"/>
            <a:ext cx="293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eter Brandvo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cc00"/>
                </a:solidFill>
                <a:latin typeface="Arial"/>
              </a:rPr>
              <a:t>Ben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99cc00"/>
                </a:solidFill>
                <a:latin typeface="Arial"/>
              </a:rPr>
              <a:t>Stil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99cc00"/>
                </a:solidFill>
                <a:latin typeface="Arial"/>
              </a:rPr>
              <a:t>Fay Still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vely black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0000"/>
                </a:solidFill>
                <a:latin typeface="Arial"/>
              </a:rPr>
              <a:t>Jody Har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80880"/>
            <a:ext cx="6629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oper Black"/>
              </a:rPr>
              <a:t>Stillman suddenly transformed from Mr. Easygoing, Aw-Shucks sheriff of Clantick to Mr. No-Nonsense Ass-Kicker, his voice taut as Glidden w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-14400"/>
            <a:ext cx="0" cy="17528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752480"/>
            <a:ext cx="80010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29600" y="0"/>
            <a:ext cx="0" cy="175248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0"/>
            <a:ext cx="80010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905120"/>
            <a:ext cx="8153280" cy="119124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oper Black"/>
              </a:rPr>
              <a:t>The lawman raised his right forearm, deflecting the blow, and smashed a powerful left hook into the side of Smith's face, making a cracking sound, causing blood to spurt from the nose that was suddenly lying flat against the drover's ch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8534520" cy="11912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relatively featureless terrain was interrupted here and there by wooded watercourses, small ranch operations, and farms with patches of oats and hay flanking a sod shack and pole corral, two or three hard-eyed youngsters staring as Stillman cantered past, ignoring his w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724280"/>
            <a:ext cx="3886200" cy="1739880"/>
          </a:xfrm>
          <a:prstGeom prst="rect">
            <a:avLst/>
          </a:prstGeom>
          <a:noFill/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oper Black"/>
              </a:rPr>
              <a:t>It stank of beer and whiskey fermenting in cedar barrels in the long, dry grass out back, where a privy sat sunbaked and leaning toward the hillock that flanke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5257800"/>
            <a:ext cx="4724280" cy="916920"/>
          </a:xfrm>
          <a:prstGeom prst="rect">
            <a:avLst/>
          </a:prstGeom>
          <a:noFill/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oper Black"/>
              </a:rPr>
              <a:t>There was the thump and smack of knuckles against flesh, and the grunts of air expunged from weakening lu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5:17:23Z</dcterms:created>
  <dc:creator>School District 14</dc:creator>
  <dc:description/>
  <dc:language>en-US</dc:language>
  <cp:lastModifiedBy>School District 14</cp:lastModifiedBy>
  <dcterms:modified xsi:type="dcterms:W3CDTF">2010-01-15T15:33:23Z</dcterms:modified>
  <cp:revision>6</cp:revision>
  <dc:subject/>
  <dc:title>Slide 1</dc:title>
</cp:coreProperties>
</file>